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562D-5572-4E9D-8C57-B3598067C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2E04-DE72-4879-ABE5-345903BCA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06B4-B374-4F83-B950-219A20DF6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4D11-3DA7-4D73-8397-7CBC4D18F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B853-7096-4AAD-9448-385DB1EE2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0B59-9545-42A0-B8A2-4690C2CAD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2778-E221-483C-9CF2-9513FC7A4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D4F8-B209-4513-9ACB-358F1F2B4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B6B8-4711-4C9D-B9BC-CE79B8631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820B-6373-4182-B308-E317DE956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2A5F-0922-4966-BEB4-BCB9BCC74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C606-A6B0-48D5-920A-48951DD5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61AB8-0A3A-4224-AB36-FEA1C02869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Interce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ebr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intercep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given a graph, how can you find the intercep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 the x-interce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– 2y =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x + 3y = 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2x – 20y = 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 the y-intercep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3x –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x + 1.7y = 5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x – 6y = -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ph the line using the given intercept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intercept:  -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-intercept: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intercept: 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-intercept:  -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the x-intercept and the y-intercept of the line.  Graph the equation.  Label the points where the line crosses the ax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x + 2y =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-6 + 3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+ 3 =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17:04:32Z</dcterms:created>
  <dc:creator>cdolezal</dc:creator>
  <dc:description/>
  <dc:language>en-US</dc:language>
  <cp:lastModifiedBy>cdolezal</cp:lastModifiedBy>
  <dcterms:modified xsi:type="dcterms:W3CDTF">2008-11-03T17:07:10Z</dcterms:modified>
  <cp:revision>2</cp:revision>
  <dc:subject/>
  <dc:title>Using Intercepts</dc:title>
</cp:coreProperties>
</file>